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7A1-B43E-47B4-9C84-82F2984D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2F3-201E-432E-A411-B161F79E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7DB-F547-4A75-90BB-11DBB88B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A3B-7879-41F4-96BE-A738A49E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F16-0D18-41B3-AC93-E68398F5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D2F-1DAF-45BA-9141-7EEB3077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5AF5-5173-4F58-81C1-8FCFD208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678-B65E-4D98-BA1E-BA6717C1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596-0EC0-4A5B-9BD8-819E56F9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099-7C0A-43B5-BA57-57A8436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867-39D3-43F2-BD97-27389FDB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71E-DC7E-4766-90E4-DF33C7B0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3970-1E31-4D05-A324-097346279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752480" y="1523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0" y="15238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Light of the world You stepped out into darkn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Opened my eyes let me se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Beauty that made this heart adore Yo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ope of a life spent with Yo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15238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King of all days, O so highly exal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Glorious in heaven abo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umbly You came to the earth You crea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l for loves sake became po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0" y="1523880"/>
            <a:ext cx="9144000" cy="73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nd I’ll never know how much it c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o see my sin upon that cro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4SEAS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worshi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bow dow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Here I am to say that You’re my Go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Your altogether Love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rt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ltogether wonderful to 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23:26:42Z</dcterms:created>
  <dc:creator>Jim Graham</dc:creator>
  <dc:description/>
  <dc:language>en-US</dc:language>
  <cp:lastModifiedBy>Jim Graham</cp:lastModifiedBy>
  <dcterms:modified xsi:type="dcterms:W3CDTF">2007-08-25T23:30:13Z</dcterms:modified>
  <cp:revision>1</cp:revision>
  <dc:subject/>
  <dc:title>Slide 1</dc:title>
</cp:coreProperties>
</file>